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585C-CDC0-4785-9C3A-7D99DE6E2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DE23-7185-4D96-AA78-B2D64B387B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D94D-8945-46A7-B261-580F715F89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est continent to Antarctica 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pe of Good Hope the distance is about 5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ape Horn the distance is about 4,000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n’t matter where you go, travel away from Antarctica is always to the North! A trick ques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h bigger in the west – that land is a bit lower but the snow is a bit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x 2 = 28 + ½ 14 = 7 total 35 with 9 ’s! 35 bill sq k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EF2D-3B40-43AE-9849-66674C8E7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390F-CBF3-4DBC-90C1-5950963BF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E541-7E02-4512-96CD-82ADCD054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71C9-20BF-4F52-8FDD-1FEC93A36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106C-8807-4161-8425-C97171689A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050B-95F0-46B9-A395-1953E299EA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5E92-480B-432C-AB98-01CDFC3F0B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FC11-0F26-464C-97D0-28763DA995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5357-C01B-4AB6-BE5B-8710796D1F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D510-D9E8-46F4-BA29-2D163CA627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DB67-B027-496B-A1E2-FF0777DEC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78A6-DF98-4321-8CC0-2E9F7B323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A1CC-3E15-42B6-A834-5C51F575ED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F159-D7A0-4B2A-9BFC-1546505361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2F7B-00C0-48D5-B7B4-49F71083D4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6D89-A858-4719-BA13-B98FCFB15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F0BC-A141-44AF-A620-A85A2D44E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5F83-DE97-4B87-95A8-1FA214044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5951-D492-43DB-B663-E8955B9FC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74FA-855E-49D8-B338-593C26F59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4161-2860-4F6C-92E3-11B6E8437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6152-38F5-422E-BB7C-61103860A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FC0C-BCF9-4FB0-893B-FB3186962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8E3F-A222-41EA-8617-0782F93B6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5949720"/>
            <a:ext cx="8636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0324-DF71-4810-9046-5E83FECCCE55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445-E7C1-4652-892A-D62F1EAA2CFA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ntarctica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8A43-A8D2-4418-A95E-5384B1C97E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45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next bit is about what has happened to Antarctica over tim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71640" y="4221000"/>
            <a:ext cx="7488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So just to remind those who have done it before – and for those who have never come across it…..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0E4A-EF45-41B5-972A-8B7ADAF99D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47192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56120" y="102960"/>
            <a:ext cx="4836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Structure of the Earth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26920" y="907920"/>
            <a:ext cx="4505760" cy="1229760"/>
            <a:chOff x="826920" y="907920"/>
            <a:chExt cx="4505760" cy="1229760"/>
          </a:xfrm>
        </p:grpSpPr>
        <p:sp>
          <p:nvSpPr>
            <p:cNvPr id="198" name=""/>
            <p:cNvSpPr/>
            <p:nvPr/>
          </p:nvSpPr>
          <p:spPr>
            <a:xfrm rot="1084200">
              <a:off x="3255120" y="1517040"/>
              <a:ext cx="2081520" cy="304920"/>
            </a:xfrm>
            <a:prstGeom prst="rightArrow">
              <a:avLst>
                <a:gd name="adj1" fmla="val 50000"/>
                <a:gd name="adj2" fmla="val 170661"/>
              </a:avLst>
            </a:prstGeom>
            <a:solidFill>
              <a:srgbClr val="cc66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6920" y="907920"/>
              <a:ext cx="2775240" cy="1191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thin crust - 10-100km thick and not very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0920" y="2276640"/>
            <a:ext cx="4937760" cy="1191240"/>
            <a:chOff x="250920" y="2276640"/>
            <a:chExt cx="4937760" cy="1191240"/>
          </a:xfrm>
        </p:grpSpPr>
        <p:sp>
          <p:nvSpPr>
            <p:cNvPr id="201" name=""/>
            <p:cNvSpPr/>
            <p:nvPr/>
          </p:nvSpPr>
          <p:spPr>
            <a:xfrm rot="21440400">
              <a:off x="3209760" y="2428920"/>
              <a:ext cx="1972800" cy="304920"/>
            </a:xfrm>
            <a:prstGeom prst="rightArrow">
              <a:avLst>
                <a:gd name="adj1" fmla="val 50000"/>
                <a:gd name="adj2" fmla="val 161747"/>
              </a:avLst>
            </a:prstGeom>
            <a:solidFill>
              <a:srgbClr val="ff9900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2276640"/>
              <a:ext cx="3369960" cy="1191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mantle – extends almost halfway to the centre, hot and dens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9280" y="3331080"/>
            <a:ext cx="5466240" cy="2536560"/>
            <a:chOff x="179280" y="3331080"/>
            <a:chExt cx="5466240" cy="2536560"/>
          </a:xfrm>
        </p:grpSpPr>
        <p:sp>
          <p:nvSpPr>
            <p:cNvPr id="204" name=""/>
            <p:cNvSpPr/>
            <p:nvPr/>
          </p:nvSpPr>
          <p:spPr>
            <a:xfrm rot="20285400">
              <a:off x="3541320" y="3715920"/>
              <a:ext cx="2123640" cy="304920"/>
            </a:xfrm>
            <a:prstGeom prst="rightArrow">
              <a:avLst>
                <a:gd name="adj1" fmla="val 50000"/>
                <a:gd name="adj2" fmla="val 174115"/>
              </a:avLst>
            </a:prstGeom>
            <a:solidFill>
              <a:srgbClr val="fee97e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9280" y="3944880"/>
              <a:ext cx="3893400" cy="1922760"/>
            </a:xfrm>
            <a:prstGeom prst="rect">
              <a:avLst/>
            </a:prstGeom>
            <a:solidFill>
              <a:srgbClr val="fee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Comic Sans MS"/>
                </a:rPr>
                <a:t>A core – made of molten nickel and iron.  Outer part is liquid and inner part is solid.  Gets hot due to radioactive decay.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7200" y="60357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99"/>
                </a:solidFill>
                <a:latin typeface="Comic Sans MS"/>
              </a:rPr>
              <a:t>The Earth is believed to be 4500 million years ol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1CC1-82A8-4C0E-B612-F6AB1A7F62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Plates and plate boundar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earth's crust is                                                 broken up into piec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se pieces are called                                          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eat rising and falling                                                            inside the mantle creates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convection current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convection currents move the plates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movement of the plates, and the activity inside the earth, is called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tectonic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 point where two plates meet is called 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late boundary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5076720" y="1125360"/>
            <a:ext cx="379116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9D68-AAB7-4986-A17F-969734C34D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9280" y="333360"/>
            <a:ext cx="770544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273E-CF17-4476-AC53-5F6ED0634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So where did Antarctica fit into all this movement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770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OR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Comic Sans MS"/>
              </a:rPr>
              <a:t>How Gondwana became the world we know today 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B943-9ACB-426D-A701-E9119E6E17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673520" cy="467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24360" y="347328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78800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7291800">
            <a:off x="6081480" y="316512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5181-CCBB-4D1E-97DA-A3AABCE3C6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162864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7459800">
            <a:off x="5254560" y="33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581360"/>
            <a:ext cx="2089080" cy="1295640"/>
          </a:xfrm>
          <a:prstGeom prst="wedgeRoundRectCallout">
            <a:avLst>
              <a:gd name="adj1" fmla="val 34347"/>
              <a:gd name="adj2" fmla="val -83944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re is a link on the wiki to an animated version of thi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2BAB-1B8B-497A-A81B-BCE29BA755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ntarctica is the world’s last great wildernes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 continent almost entirely buried by snow and ic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so hostile and remote that it has no permanent resident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urrounded by the Southern Ocean, Antarctica covers nearly 9% of the Earth’s land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40360" y="4581000"/>
            <a:ext cx="475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25% bigger than Europe, making it the fifth largest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 is also the least polluted of all the continents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924360" y="1125360"/>
            <a:ext cx="5038560" cy="333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5822-A3EE-4CA3-858A-0900AF0A54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321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Antarctica is divided into two main areas: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East Antarctica (sometimes called Greater Antarctica), and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224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West Antarctica (Lesser Antarctica)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y are separated by the Transantarctic Mountains that stretch 3,540 kilometres across the continent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4360" y="4581000"/>
            <a:ext cx="4608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est Antarctica is the smallest of the two and has a peninsula that sticks out nearly 1,000 towards the southern tip of South America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500720" y="731880"/>
            <a:ext cx="4464000" cy="3900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15A5-0B99-411D-A850-E2B58D9BD7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bout 99% of Antarctica is covered with a vast ice sheet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It is the largest single mass of ice on Earth and is bigger than the whole of Europ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t least 3 million years old (and as much as 30 million years old in places)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ice sheet averages 2,450 metres deep and holds about 70% of the world’s fresh wa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average altitude is about 2,300 metres above sea level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Vinson Massif is Antarctica’s highest point, rising to a height of 4,897 metr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7640" y="4292280"/>
            <a:ext cx="4465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ut in places, the bottom of the ice can be as much as 3,000m below sea level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 they weren’t filled with ice, large parts of Antarctica would be under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4427640" y="836640"/>
            <a:ext cx="4392360" cy="335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B327-A04F-4D5C-88E1-B7C383050B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are we going to do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ere is it? What is it? Why it is like tha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goes on there? How did that come about? What are the pressures on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Antarctica and Global warming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about visiting the place? Would you like to go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have you found out about Antarctica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D78B-AB8F-4221-BB56-4E32F0DF3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31680"/>
            <a:ext cx="8713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Let’s see what it is really like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321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ntarctica’s ice sheet is constantly on the mov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Huge rivers of ice known as glaciers are pulled slowly by gravity from the interior towards the sea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long the way, the ice cracks, breaks and is ruptured by underlying rock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Crevasses up to hundreds of metres deep can form on the surface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On reaching the sea, the glaciers spill out over the water’s surface and create gigantic floating blocks of ice called ice shelves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argest, the Ross Ice Shelf, is the size of Franc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2920" y="3500280"/>
            <a:ext cx="4249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ometimes pieces of an ice shelf break off to form icebergs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Beyond the ice shelves, much of the surrounding ocean freezes over during the winter. 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With this extra winter sea-ice, Antarctica almost doubles in size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4643280" y="692280"/>
            <a:ext cx="4256280" cy="2793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E5C8-AC2A-4A25-839B-3855BE783A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Do they have seasons on Antarctica or is always just col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fore I get you to count icy squares (1 mill km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each), I think we need to discuss something – do you notice anything odd here?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an you think what is going on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187280" y="1484280"/>
            <a:ext cx="2524320" cy="25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7492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rc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ptemb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E7A1-49BD-43D9-BECA-CED3E9209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ostly you will have come across Antarctica on a map like thi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760" y="1263600"/>
            <a:ext cx="89344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54E6-CED9-4F6D-9B1E-0C381A2D8F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omic Sans MS"/>
              </a:rPr>
              <a:t>How many UKs could fit into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048280" cy="504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4581360"/>
            <a:ext cx="1800000" cy="648000"/>
          </a:xfrm>
          <a:prstGeom prst="cloudCallout">
            <a:avLst>
              <a:gd name="adj1" fmla="val 116050"/>
              <a:gd name="adj2" fmla="val -399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uess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A3C9-E1FF-40D9-BB92-62466BF79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ow can we do it properly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we know the area of each location (UK and Antarctica),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e can divide Antarctica area by the UK are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Antarctica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13,829,43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UK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224,820 km</a:t>
            </a:r>
            <a:r>
              <a:rPr b="0" lang="en-US" sz="3200" spc="-1" strike="noStrike" baseline="30000">
                <a:solidFill>
                  <a:srgbClr val="0066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w 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alculate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 about how many countries the size of the UK would fit into Antarctica what is it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E58E-D9BA-4636-A0F1-81A18B52E2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3320"/>
            <a:ext cx="87138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What about the other parts of the world?</a:t>
            </a:r>
            <a:endParaRPr b="0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566100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ich is it closest to it in size? Which is it just less than double? Can you put them in order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128000" cy="46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4533-DFDE-4F94-BB66-B215D94DDA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Upside down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is the nearest continent to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pproximately how far is it from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the South Pole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Cape of Good Hope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Cape Horn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which compass direction do you move from Antarctica to: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South Americ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ustralia?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851280" y="1197000"/>
            <a:ext cx="5037120" cy="503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E4BF-9B34-47B3-8490-F8E3537D4F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2276640"/>
            <a:ext cx="2016360" cy="4105080"/>
          </a:xfrm>
          <a:prstGeom prst="wedgeRoundRectCallout">
            <a:avLst>
              <a:gd name="adj1" fmla="val 80708"/>
              <a:gd name="adj2" fmla="val -16935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have the worksheet, label i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f you do not have the worksheet, you will need to flick back and forward for this o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CB28-AE41-46A8-BD51-5F77015AB9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1. Can you spot three differences between the ice sheets over West Antarctica and East Antarctica? Think about their size, the heights of the ice sheets and the land below them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2. If Antarctica’s area is about 14,000,000 square kilometres and the average ice sheet thickness is 2,450 metres, can you calculate the approximate volume of the ice in Antarctica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3. What do you think would happen to the land buried under the ice if the ice sheets melted? Why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262D-28C4-449E-BE9B-FA49C4EEF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8:48:11Z</dcterms:created>
  <dc:creator>Lindy</dc:creator>
  <dc:description/>
  <dc:language>en-US</dc:language>
  <cp:lastModifiedBy>Lindy</cp:lastModifiedBy>
  <dcterms:modified xsi:type="dcterms:W3CDTF">2009-04-19T13:12:14Z</dcterms:modified>
  <cp:revision>8</cp:revision>
  <dc:subject/>
  <dc:title>Antarctica</dc:title>
</cp:coreProperties>
</file>